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557E-D5A2-4FEF-8033-1367DEA57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14D7-583F-447D-AF31-A95F428E9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FD8-0A3B-48E3-A601-2F61E9F5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F3D-F58A-41E1-857D-CAD912A0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80C-BCE9-4680-A4AD-1588C18C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C7E-3712-4994-B52A-BF215C06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D56-BA7C-42F2-B532-D6B11459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C89-402A-4ACC-AB62-2544A48B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3E7-5E74-4A31-B6FF-712162D4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E4E-50C5-4EF7-916E-96BB611E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930-EC12-4915-BBE2-54A3381E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5EF-3725-41E5-BFAF-B09E8871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252-A526-4525-A4CD-EF429C70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CED-7B52-4104-A0E3-CF113778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0051-3638-44A5-AB3D-BB4C6F1EA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am Awada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80880" y="2438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(2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80880" y="26668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28954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905120" y="1447920"/>
            <a:ext cx="601956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82880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5238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82880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62000" y="53722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18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617920" y="3429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60840" y="35053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76320" y="3618000"/>
            <a:ext cx="1676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64764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236520" y="6099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249200" y="5130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b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876920"/>
            <a:ext cx="3886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Lib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ola! 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¿L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o que está arrib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70200" y="3124080"/>
            <a:ext cx="3876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Manish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343434"/>
                </a:solidFill>
                <a:latin typeface="Arial"/>
              </a:rPr>
              <a:t>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Buenas tardes. ¿Quieres hacer algo este fin de semana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70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Misb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7880" y="54864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Stev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i amora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ablar conmigo por la mañ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1981080" y="182880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2"/>
          <p:cNvSpPr/>
          <p:nvPr/>
        </p:nvSpPr>
        <p:spPr>
          <a:xfrm>
            <a:off x="703440" y="609588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photo-1.jpeg"/>
          <p:cNvPicPr/>
          <p:nvPr/>
        </p:nvPicPr>
        <p:blipFill>
          <a:blip r:embed="rId1"/>
          <a:stretch/>
        </p:blipFill>
        <p:spPr>
          <a:xfrm>
            <a:off x="712800" y="466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photo.jpeg"/>
          <p:cNvPicPr/>
          <p:nvPr/>
        </p:nvPicPr>
        <p:blipFill>
          <a:blip r:embed="rId2"/>
          <a:stretch/>
        </p:blipFill>
        <p:spPr>
          <a:xfrm>
            <a:off x="203040" y="4657680"/>
            <a:ext cx="422280" cy="460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8" descr=""/>
          <p:cNvPicPr/>
          <p:nvPr/>
        </p:nvPicPr>
        <p:blipFill>
          <a:blip r:embed="rId3"/>
          <a:stretch/>
        </p:blipFill>
        <p:spPr>
          <a:xfrm>
            <a:off x="2133720" y="2514600"/>
            <a:ext cx="512640" cy="5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0" descr="C:\Users\Unicorns are Cool\Downloads\behappy_dontworry on Instagram_files\profile_33995694_75sq_1352944363.jpg"/>
          <p:cNvPicPr/>
          <p:nvPr/>
        </p:nvPicPr>
        <p:blipFill>
          <a:blip r:embed="rId4"/>
          <a:stretch/>
        </p:blipFill>
        <p:spPr>
          <a:xfrm>
            <a:off x="468360" y="1432080"/>
            <a:ext cx="981000" cy="981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1" descr=""/>
          <p:cNvPicPr/>
          <p:nvPr/>
        </p:nvPicPr>
        <p:blipFill>
          <a:blip r:embed="rId5"/>
          <a:stretch/>
        </p:blipFill>
        <p:spPr>
          <a:xfrm>
            <a:off x="2151000" y="3124080"/>
            <a:ext cx="486000" cy="4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3" descr="C:\Users\Unicorns are Cool\Downloads\apessssss_ on Instagram_files\c2ca73f2359311e29b2522000a9f13d5_7.jpg"/>
          <p:cNvPicPr/>
          <p:nvPr/>
        </p:nvPicPr>
        <p:blipFill>
          <a:blip r:embed="rId6"/>
          <a:stretch/>
        </p:blipFill>
        <p:spPr>
          <a:xfrm>
            <a:off x="203040" y="5486400"/>
            <a:ext cx="476280" cy="58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4" descr="C:\Users\Unicorns are Cool\Downloads\_mermaidinspired on Instagram_files\profile_17452405_75sq_1354473962.jpg"/>
          <p:cNvPicPr/>
          <p:nvPr/>
        </p:nvPicPr>
        <p:blipFill>
          <a:blip r:embed="rId7"/>
          <a:stretch/>
        </p:blipFill>
        <p:spPr>
          <a:xfrm>
            <a:off x="1249200" y="4657680"/>
            <a:ext cx="462240" cy="44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5" descr=""/>
          <p:cNvPicPr/>
          <p:nvPr/>
        </p:nvPicPr>
        <p:blipFill>
          <a:blip r:embed="rId8"/>
          <a:stretch/>
        </p:blipFill>
        <p:spPr>
          <a:xfrm>
            <a:off x="2133720" y="4876920"/>
            <a:ext cx="463320" cy="45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C:\Users\Unicorns are Cool\Downloads\xobanaaxo on Instagram_files\640e37a8286511e2a76e22000a9f1968_7.jpg"/>
          <p:cNvPicPr/>
          <p:nvPr/>
        </p:nvPicPr>
        <p:blipFill>
          <a:blip r:embed="rId9"/>
          <a:stretch/>
        </p:blipFill>
        <p:spPr>
          <a:xfrm>
            <a:off x="762120" y="5486400"/>
            <a:ext cx="371520" cy="59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532541_4387223202872_804143334_n.jpeg"/>
          <p:cNvPicPr/>
          <p:nvPr/>
        </p:nvPicPr>
        <p:blipFill>
          <a:blip r:embed="rId10"/>
          <a:stretch/>
        </p:blipFill>
        <p:spPr>
          <a:xfrm>
            <a:off x="1219320" y="5486400"/>
            <a:ext cx="457200" cy="623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1221840" y="609588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8" descr="532541_4387223202872_804143334_n.jpeg"/>
          <p:cNvPicPr/>
          <p:nvPr/>
        </p:nvPicPr>
        <p:blipFill>
          <a:blip r:embed="rId11"/>
          <a:stretch/>
        </p:blipFill>
        <p:spPr>
          <a:xfrm>
            <a:off x="2133720" y="541008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3075120" y="3733920"/>
            <a:ext cx="35812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! Debemos debería ir a patinar sobre hielo. Me voy con Albana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debería veni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21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0" descr="C:\Users\Unicorns are Cool\Downloads\behappy_dontworry on Instagram_files\profile_33995694_75sq_1352944363.jpg"/>
          <p:cNvPicPr/>
          <p:nvPr/>
        </p:nvPicPr>
        <p:blipFill>
          <a:blip r:embed="rId12"/>
          <a:stretch/>
        </p:blipFill>
        <p:spPr>
          <a:xfrm>
            <a:off x="2617920" y="3733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7"/>
          <p:cNvSpPr/>
          <p:nvPr/>
        </p:nvSpPr>
        <p:spPr>
          <a:xfrm>
            <a:off x="3048120" y="4343400"/>
            <a:ext cx="3571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y a voy a pedir a mis padres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14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1" descr=""/>
          <p:cNvPicPr/>
          <p:nvPr/>
        </p:nvPicPr>
        <p:blipFill>
          <a:blip r:embed="rId13"/>
          <a:stretch/>
        </p:blipFill>
        <p:spPr>
          <a:xfrm>
            <a:off x="2590920" y="43434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1900080" y="844560"/>
            <a:ext cx="3891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Apr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engo que decirte algo a decir a te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1900080" y="1488960"/>
            <a:ext cx="3902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Albana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días! ¿Quieres ir a patinar sobre hielo ho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7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480960" cy="5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9" descr=""/>
          <p:cNvPicPr/>
          <p:nvPr/>
        </p:nvPicPr>
        <p:blipFill>
          <a:blip r:embed="rId2"/>
          <a:stretch/>
        </p:blipFill>
        <p:spPr>
          <a:xfrm>
            <a:off x="1374840" y="1430280"/>
            <a:ext cx="371520" cy="592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am Awada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9:05Z</dcterms:modified>
  <cp:revision>114</cp:revision>
  <dc:subject/>
  <dc:title>Profile</dc:title>
</cp:coreProperties>
</file>